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94E9-B48C-4E18-AFC8-6999E1A3E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7CDD-F671-4A72-8B51-D1B37282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DBE8-48E4-4A87-BD36-0C6724D4C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4242-AEA2-47E7-B3EE-EB1C916BF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E9D1-A31D-4348-A4A5-AD99EDB3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B100-0889-44BF-80D3-627B1E64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D5AC-8391-4901-A879-46293D75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DB0D-A2CC-4A90-9FB9-A9659823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90E0-0E59-4CD6-BB56-42C22C00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9E89-9AA1-42F5-B9EF-8D958C71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FDDC-E0B8-4805-9896-BFDEA7C1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324B-3020-43D7-8D74-67753B69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F967-9EAB-464D-9465-48F6A0037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Chemical Bo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dium - chlorine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467560" y="4470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Write the electron configuration and oribital diagram for Sodium and Chlorin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4076640" cy="3670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73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3353040" cy="2075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29200" y="2438280"/>
            <a:ext cx="27432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What would happen if Lithium and Bromine combine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16:08:30Z</dcterms:created>
  <dc:creator>Dan Salazar</dc:creator>
  <dc:description/>
  <dc:language>en-US</dc:language>
  <cp:lastModifiedBy>Dan Salazar</cp:lastModifiedBy>
  <dcterms:modified xsi:type="dcterms:W3CDTF">2011-12-16T16:51:04Z</dcterms:modified>
  <cp:revision>3</cp:revision>
  <dc:subject/>
  <dc:title>Introduction to Chemical Bonds</dc:title>
</cp:coreProperties>
</file>